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D5D-FC1F-4A98-8651-44D97127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AF6-749E-4D5B-9BAF-1831969B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474-8EAC-4FF8-BA85-8DA3095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5A8-62E6-4155-9363-0E278D0F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CDD-DBA4-4111-82F7-830B809B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62D-43DD-4B62-B294-8379F8D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5F5-4496-4426-A70E-02D7750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E1E-C653-420A-8F95-7B573A45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9AD-4B07-4091-ACBC-23CB344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180-4FF3-4966-9C44-1DD65F3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890-EE8F-4453-900B-16C9846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F72-0094-4BC4-B697-3E24AD1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28C-483F-49B4-BD2D-3D45D84AD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son's 14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n end to all secret diplo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reedom of the seas in peace an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he reduction of trade barriers among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The general reduction of arm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adjustment of colonial claims in the interest of the inhabitants as well as of the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13. Redrawing bounda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A league of nations to protect "mutual guarantees of political independence and territorial integrity to great and small nations alike."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Woodrow Wilson"/>
          <p:cNvPicPr/>
          <p:nvPr/>
        </p:nvPicPr>
        <p:blipFill>
          <a:blip r:embed="rId1"/>
          <a:stretch/>
        </p:blipFill>
        <p:spPr>
          <a:xfrm>
            <a:off x="7315200" y="152280"/>
            <a:ext cx="1565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44:03Z</dcterms:created>
  <dc:creator> Dan Hoppe</dc:creator>
  <dc:description/>
  <dc:language>en-US</dc:language>
  <cp:lastModifiedBy>wnichols</cp:lastModifiedBy>
  <dcterms:modified xsi:type="dcterms:W3CDTF">2010-11-08T15:09:51Z</dcterms:modified>
  <cp:revision>1</cp:revision>
  <dc:subject/>
  <dc:title>Wilson's 14 Points</dc:title>
</cp:coreProperties>
</file>